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60F-6472-48E5-BC84-A76CA615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F5C-9728-428C-8A5B-0600E37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64E-1EEF-4D7D-9919-83AAAD48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849-A981-4CC4-8270-A04C2C58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F0F1-1BBC-440E-B31B-BCEC4A12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124-B27D-4DC5-B5D9-008BB576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179-3D17-4A9F-9C69-E006124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0832-6E4D-4A28-B19A-4ABD409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88B-707A-4092-A001-1E0FC9FA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3C9B-F3BE-49EE-815E-A894371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41A6-4AB5-4A51-A25C-4ACE665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FA2-29F6-4648-A09F-48EA672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03C0-0C39-4FEF-8C69-BB03CA5E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C51E-3121-4C31-BC4E-A8AE785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0F7-DAC0-4212-A3E8-9EE2510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3FEF-EBEC-4E38-91DA-766A6103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2301-A17E-445F-A385-CD04A74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47C-8727-4999-88CD-FB15361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C8B-AE13-4E99-AAB3-C628A2AA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7F1-1A04-451B-9FA6-34BA3BE8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827-35D8-49EC-B71B-E98B836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B62-F176-4E78-9E0E-A048363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809-124A-4138-8880-F070A9C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C3B-5174-4F70-94DC-6302237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1C7D-221B-490E-93D1-F57DDC947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6143-977E-44D0-835A-3F8E2BC60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rookly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WE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was a snake under the pile of leaves . And   it was fallowing me home.  At first I was a little scared. I was wandering if it was mind controled or some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358128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1625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0Z</dcterms:created>
  <dc:creator>demilovatorocks!</dc:creator>
  <dc:description/>
  <dc:language>en-US</dc:language>
  <cp:lastModifiedBy>demilovatorocks!</cp:lastModifiedBy>
  <dcterms:modified xsi:type="dcterms:W3CDTF">2010-10-25T18:08:51Z</dcterms:modified>
  <cp:revision>3</cp:revision>
  <dc:subject/>
  <dc:title>Brooklyn</dc:title>
</cp:coreProperties>
</file>